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51A76-A239-4A63-A448-CEA67C377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55741-D042-452C-8B1A-7545106F9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2CC00-252E-4E53-8C37-0B65C8157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DF269-8A36-49D0-B0C6-932BEA860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EE864-6C95-43F8-9D05-F241F9674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4F434-0D16-4BC4-ACE7-F7882410D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EA2E5-70EF-4C37-90B0-4E1224EAE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D6891-C15D-4CA2-9A82-078F874CE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377DC-F641-428F-86F1-D8F84882E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C3F57-92F8-4CFE-8F84-C4FB99DD6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CA08C-8D1C-4BB3-BE51-698033A8F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61FCC-99BA-438B-B92E-2B555885F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E55DD-3C98-48C6-9930-747793D9C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0DE8D-4AB4-4B95-855B-945FB325C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4A50E-8FB6-47B3-8DFB-0257117AA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475E44-4E46-4A5A-8634-768F1F1C23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5905E3-E422-442D-8320-B9F41C8206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9C3E62-509B-4A37-9B7D-04697D2BA8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019BA2-09E0-4FCB-8CEC-8FD2F607E8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B13697-1080-4E53-A7EF-AF694D3509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741865-F23A-4904-BBC0-08BD526AE3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A854AD-814A-48FB-BCA7-EAF3EDFDA6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3F68D-5AAE-481C-88FD-0B3DB011B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4CE60F-660B-42A4-939E-4B328ADFC0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94424E-BAAC-4B44-BF0B-091BD315EB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FF339D-9445-45AB-8199-C360F12202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D20FCE-6362-4381-8E00-B5D5F8A41B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9E3009-ACB1-43E2-8962-41A892EBFE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EF7F4A-CA21-4D2D-BCE7-04F22C7384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720245-690A-4DF8-8736-2CFF70CC3F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014593-7E5E-43FA-80C6-4F39B7223D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B83A07-1C85-4ADF-98C5-BDEDCA3B70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B9EE4B-6003-433E-82A6-7D83A6BD03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E5BF8-2626-41FF-A98D-4C8E4664F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3BBDA2-02A8-4B13-A160-9F95146DC4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117163-1E68-4F63-A104-F042F863F4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A67430-800B-4025-83DD-17317DE849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4D1D96-4831-4A2F-B0A8-9C55FD1C88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47FF59-B0F7-498F-B4AD-2B8172CCB1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2098E0-E074-4DEC-A5F2-82EF689923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2BEF15-CBFC-40AC-A3C3-21946E0DE7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BCDDEB-C3C6-4207-8C1B-5DDBF2D219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19B2C6-82AA-4A31-A62B-2DD298EF5C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A83FB-C5AF-4EFA-8676-3BCD34285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BC61F-373F-49E5-9791-B2628EEE8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1F10A-EC3A-4F72-A370-ED8683708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0BEAA-F919-4287-80AE-82DE4FF9F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BB697-1982-4BA4-ABE2-E6F269E1E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0899-E5BD-4B29-A909-4D11D9BE0CA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4" name="Picture 8" descr="LOGO"/>
          <p:cNvPicPr/>
          <p:nvPr/>
        </p:nvPicPr>
        <p:blipFill>
          <a:blip r:embed="rId5"/>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0" name="Picture 8" descr="LOGO"/>
          <p:cNvPicPr/>
          <p:nvPr/>
        </p:nvPicPr>
        <p:blipFill>
          <a:blip r:embed="rId5"/>
          <a:stretch/>
        </p:blipFill>
        <p:spPr>
          <a:xfrm>
            <a:off x="2000160" y="0"/>
            <a:ext cx="4857840" cy="1163520"/>
          </a:xfrm>
          <a:prstGeom prst="rect">
            <a:avLst/>
          </a:prstGeom>
          <a:ln w="0">
            <a:noFill/>
          </a:ln>
        </p:spPr>
      </p:pic>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D57F6-171E-457B-8017-33724B1CC9D7}"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1" name="Picture 8" descr="LOGO"/>
          <p:cNvPicPr/>
          <p:nvPr/>
        </p:nvPicPr>
        <p:blipFill>
          <a:blip r:embed="rId5"/>
          <a:stretch/>
        </p:blipFill>
        <p:spPr>
          <a:xfrm>
            <a:off x="2000160" y="0"/>
            <a:ext cx="4857840" cy="1163520"/>
          </a:xfrm>
          <a:prstGeom prst="rect">
            <a:avLst/>
          </a:prstGeom>
          <a:ln w="0">
            <a:noFill/>
          </a:ln>
        </p:spPr>
      </p:pic>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F54A-352A-41F4-896A-76741D460B26}"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E856-1668-4371-8ABD-ABBB832CFAF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Интегрисане академске студије фармације</a:t>
            </a:r>
            <a:endParaRPr b="0" lang="en-US" sz="28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Предмет: Енглески језик</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Предавач: Душица Лазић</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539640" y="1773000"/>
            <a:ext cx="8229600" cy="4389480"/>
          </a:xfrm>
          <a:prstGeom prst="rect">
            <a:avLst/>
          </a:prstGeom>
          <a:noFill/>
          <a:ln w="0">
            <a:noFill/>
          </a:ln>
        </p:spPr>
        <p:txBody>
          <a:bodyPr anchor="t">
            <a:normAutofit fontScale="95000"/>
          </a:bodyPr>
          <a:p>
            <a:pPr marL="259200" indent="32580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ea typeface="Times New Roman"/>
              </a:rPr>
              <a:t>It may be said that medicines in general are the product of interdisciplinary studies. First of all, there is Pharmacy which deals with the preparing, compounding, preserving and dispensing of medicines. Pharmacology is the science of drugs including materia medica, toxicology, and therapeutics. Pharmacognozy comprises the history, source, cultivation, collection, preparation, distribution, identification, composition, purity, and preservation of drugs of vegetable and animal origin. Pharmacodynamics is concerned with the reactions between drugs and living systems. Pharmacokinetics studies the bodily absorption, distribution, metabolism and excretion of medicines…….. The rest of the lesson may be found in the text book “English Language in Pharmacy Practice”, by Leontina Kernican</a:t>
            </a:r>
            <a:endParaRPr b="0" lang="en-US" sz="2100" spc="-1" strike="noStrike">
              <a:solidFill>
                <a:srgbClr val="000000"/>
              </a:solidFill>
              <a:latin typeface="Constantia"/>
            </a:endParaRPr>
          </a:p>
        </p:txBody>
      </p:sp>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harmacy as an Interdisciplinary Science</a:t>
            </a:r>
            <a:endParaRPr b="0" lang="en-US" sz="28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Words to remember:</a:t>
            </a:r>
            <a:endParaRPr b="0" lang="en-US" sz="28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biopharmaceutic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decongesta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de effe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discar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amp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xicolog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practitio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excre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facilit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alking Points:</a:t>
            </a:r>
            <a:endParaRPr b="0" lang="en-US" sz="28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HARMACOGNOZY AS A SCIENC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HARMACY  EDUCAT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IMPORTANCE OF PHARMACEUTICAL CHEMISTR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IFFERENCE BETWEEN PRESCRIPTION AND NONPRESCRIPTION MEDICINE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Make nouns from the following verbs and use each of the nouns in a sentence:</a:t>
            </a:r>
            <a:endParaRPr b="0" lang="en-US" sz="28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bserv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os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urify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oun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ltivat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e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scrib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ac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Suggest the definition of the following words:</a:t>
            </a:r>
            <a:endParaRPr b="0" lang="en-US" sz="28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ualitativ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iochemistr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organic</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harmacodynamic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apeutic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bsorpt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teria medic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idency train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ranslate into English:</a:t>
            </a:r>
            <a:endParaRPr b="0" lang="en-US" sz="28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Превести краћи текст о лековитим својствима маслине који се налази на 380 стр. уџбеника “English Language in Pharmacy Practice”, аутора мр. Леонтине Керничан.</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3-06T11:10:58Z</dcterms:modified>
  <cp:revision>37</cp:revision>
  <dc:subject/>
  <dc:title>Slide 1</dc:title>
</cp:coreProperties>
</file>